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6C87-0CBE-4327-9ABF-C577A959B7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135-4BFF-451F-9ADB-4C03DD6B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35C-4A79-4BE9-98CC-F5890276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B2C-187D-4117-AD06-7929D38F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A8B-BDEE-484E-BCBD-F59791CD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FA69-9A6C-4A0C-AAB0-F1BAC59A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7CD2-CAEA-452F-BC4E-98BCA40E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500F-C3E3-4CF7-AD07-8BCDE20C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607A-74B5-47F8-B6CA-1013B508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0F03-A155-4616-AE09-1155DAAF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A18C-5CCB-4AA9-A65E-DCC21CDC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CEC1-2DAD-496E-9FCA-E02E6CEC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E3A-65CF-4EFC-AF9B-50F62AC8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42FE-8440-490A-B14D-65CEC2B4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6E67-A399-456E-B824-F87FB54A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03BC-A451-4F9C-AEA9-6D76602E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9DF0-D45A-4801-8652-86E2D2CB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C8CE-3A0C-4E6D-A1F3-1B799667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2FD-EF87-486D-BF12-EECFD4E5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574-FD2E-4069-B795-A85B314B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D77-9F72-425A-8A9C-8E9A0EAD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B3C-FE4E-42C9-9A01-9416FAC3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D25-1B9B-4118-ABC0-D731813A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B88-8103-46B5-BF94-1C517D91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FAA-5425-4594-AD75-907636A2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228D-8D77-4DB3-B89B-96D31B52F9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A2EA-82AE-4927-ACFE-953DCFB449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18:09Z</dcterms:modified>
  <cp:revision>32</cp:revision>
  <dc:subject/>
  <dc:title>basic space</dc:title>
</cp:coreProperties>
</file>